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22.wmf" ContentType="image/x-wmf"/>
  <Override PartName="/ppt/media/image20.gif" ContentType="image/gif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E2A-EC54-4E09-B5CB-789466E8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116-8EE7-41A3-9D04-CE0AF001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385-047C-466A-9E21-B5FFB68B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FB4-522B-4DBA-A655-1B18683A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23A9-6463-4660-93AD-A616A358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132E-FCAB-43AF-A63D-28ABDB0C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1896-8ACD-4385-BC9D-7C36BE7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2773-0AD7-4A2E-B97A-12E89FF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954-DAFB-4176-9D56-F5A1DD7C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4976-E517-483C-93EB-6D72B8B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7A1C-C04A-4F89-935B-C40C11F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D74-9510-48AD-B70F-FDDCBF43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0044-2E4E-46CE-9FE4-BBD9E6BD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1194-3F26-4652-A467-ACDB51C3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BAF4-BD19-449B-B7EE-BF74B272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4EB2-9B60-4370-ACDA-F66E9DBE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52B-18ED-4193-BC77-4BC2BA74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B75-E64A-451A-B27C-6194C42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A513-9F55-43B8-8EEC-0B380703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151-BF29-49FB-A824-154821A0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9BF-EE3B-4653-8AB9-687873D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500-943E-46A1-BD8A-897A4762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712-83AD-46E5-A7AC-4B34A252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DCB-6971-46C2-97DF-AB0BF2F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B981-451A-4F9E-A9A6-C8B85B71E78A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F8E-32B6-4ED5-B86D-A3F10EEDCF69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1" action="ppaction://hlinksldjump"/>
              </a:rPr>
              <a:t>Alof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Autopilo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Desc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Engine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Flaps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Launch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Prop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Propeller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9" action="ppaction://hlinksldjump"/>
              </a:rPr>
              <a:t>Radar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10" action="ppaction://hlinksldjump"/>
              </a:rPr>
              <a:t>Thrus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3" name="Rectangle 5" descr=""/>
          <p:cNvPicPr/>
          <p:nvPr/>
        </p:nvPicPr>
        <p:blipFill>
          <a:blip r:embed="rId11"/>
          <a:stretch/>
        </p:blipFill>
        <p:spPr>
          <a:xfrm>
            <a:off x="1920960" y="1517760"/>
            <a:ext cx="53640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 system that uses reflected radio waves to determine the presence, location, and speed of distant object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5" descr="C:\Program Files\Microsoft Office\Media\CntCD1\Animated\j0234742.gif"/>
          <p:cNvPicPr/>
          <p:nvPr/>
        </p:nvPicPr>
        <p:blipFill>
          <a:blip r:embed="rId2"/>
          <a:stretch/>
        </p:blipFill>
        <p:spPr>
          <a:xfrm>
            <a:off x="4643280" y="4143240"/>
            <a:ext cx="32911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somebody or something with a single movement of considerable forc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to e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4" descr="C:\Program Files\Microsoft Office\Media\CntCD1\ClipArt4\j0251983.wmf"/>
          <p:cNvPicPr/>
          <p:nvPr/>
        </p:nvPicPr>
        <p:blipFill>
          <a:blip r:embed="rId2"/>
          <a:stretch/>
        </p:blipFill>
        <p:spPr>
          <a:xfrm>
            <a:off x="4786200" y="3571920"/>
            <a:ext cx="38023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utomatic pilo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Click here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go back to go back to the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C:\Program Files\Microsoft Office\Media\CntCD1\ClipArt3\j0233074.wmf"/>
          <p:cNvPicPr/>
          <p:nvPr/>
        </p:nvPicPr>
        <p:blipFill>
          <a:blip r:embed="rId3"/>
          <a:stretch/>
        </p:blipFill>
        <p:spPr>
          <a:xfrm>
            <a:off x="4143240" y="3571920"/>
            <a:ext cx="314352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high up in the air or above the groun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4" descr="C:\Program Files\Microsoft Office\Media\CntCD1\ClipArt3\j0233076.wmf"/>
          <p:cNvPicPr/>
          <p:nvPr/>
        </p:nvPicPr>
        <p:blipFill>
          <a:blip r:embed="rId2"/>
          <a:stretch/>
        </p:blipFill>
        <p:spPr>
          <a:xfrm>
            <a:off x="5000760" y="3929040"/>
            <a:ext cx="274608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to move from a high spot to a lower spo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C:\Program Files\Microsoft Office\Media\CntCD1\ClipArt3\j0233072.wmf"/>
          <p:cNvPicPr/>
          <p:nvPr/>
        </p:nvPicPr>
        <p:blipFill>
          <a:blip r:embed="rId2"/>
          <a:stretch/>
        </p:blipFill>
        <p:spPr>
          <a:xfrm>
            <a:off x="5286240" y="4286160"/>
            <a:ext cx="27655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 machine that converts an energy source into mechanical power or motion.</a:t>
            </a:r>
            <a:br>
              <a:rPr sz="2800"/>
            </a:b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C:\Program Files\Microsoft Office\Media\CntCD1\Photo1\j0201172.jpg"/>
          <p:cNvPicPr/>
          <p:nvPr/>
        </p:nvPicPr>
        <p:blipFill>
          <a:blip r:embed="rId2"/>
          <a:stretch/>
        </p:blipFill>
        <p:spPr>
          <a:xfrm>
            <a:off x="4572000" y="385776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/definition=  lets the plane turn and go up and dow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5" descr="C:\Program Files\Microsoft Office\Media\CntCD1\ClipArt5\j0285540.wmf"/>
          <p:cNvPicPr/>
          <p:nvPr/>
        </p:nvPicPr>
        <p:blipFill>
          <a:blip r:embed="rId2"/>
          <a:stretch/>
        </p:blipFill>
        <p:spPr>
          <a:xfrm>
            <a:off x="4857840" y="4286160"/>
            <a:ext cx="267804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to send a rocket, missile, or spacecraft into the air or the upper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C:\Program Files\Microsoft Office\Media\CntCD1\ClipArt2\j0229143.wmf"/>
          <p:cNvPicPr/>
          <p:nvPr/>
        </p:nvPicPr>
        <p:blipFill>
          <a:blip r:embed="rId2"/>
          <a:stretch/>
        </p:blipFill>
        <p:spPr>
          <a:xfrm>
            <a:off x="5143680" y="4500720"/>
            <a:ext cx="261288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to move or push somebody or something forwa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C:\Program Files\Microsoft Office\Media\CntCD1\ClipArt2\j0229075.wmf"/>
          <p:cNvPicPr/>
          <p:nvPr/>
        </p:nvPicPr>
        <p:blipFill>
          <a:blip r:embed="rId2"/>
          <a:stretch/>
        </p:blipFill>
        <p:spPr>
          <a:xfrm>
            <a:off x="4071960" y="4286160"/>
            <a:ext cx="39672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aning= a revolving shaft with spiral blades that causes a ship or an aircraft to move by the backward thrust of water or ai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lick here to go back to the glossa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4" descr="C:\Program Files\Microsoft Office\Media\CntCD1\ClipArt1\j0198893.wmf"/>
          <p:cNvPicPr/>
          <p:nvPr/>
        </p:nvPicPr>
        <p:blipFill>
          <a:blip r:embed="rId2"/>
          <a:stretch/>
        </p:blipFill>
        <p:spPr>
          <a:xfrm>
            <a:off x="4572000" y="4429080"/>
            <a:ext cx="29559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46:21Z</dcterms:created>
  <dc:creator>Education</dc:creator>
  <dc:description/>
  <dc:language>en-US</dc:language>
  <cp:lastModifiedBy>Education</cp:lastModifiedBy>
  <dcterms:modified xsi:type="dcterms:W3CDTF">2009-07-24T02:32:04Z</dcterms:modified>
  <cp:revision>15</cp:revision>
  <dc:subject/>
  <dc:title>Flight Glossary</dc:title>
</cp:coreProperties>
</file>